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272-14A2-48DC-B8F9-55797E58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CF0-C6E7-4B9B-BC43-04505DED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BDF-9F22-4080-9277-01144109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9FD-9DC4-4FC0-9102-E3602F0D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074-1282-470B-AE7F-DBA9D8D7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049-288B-4AF3-9E5D-A566FECA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62C-6E0D-4C9C-A630-91AE948B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165-CE13-4F7A-A16C-3072FD55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9BA-0721-437C-9041-A93BF6D9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77E-F746-4C41-ACC6-A504B22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0E3-9949-405D-A72F-6E8033A9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2B8-0BC8-47E3-BD8D-B840C6EC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7A22-CF01-4C05-8757-B55AF19BC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4 Outcome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readsheets, 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T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nformation Problems Occu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ffici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in information or does not meet user’s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e on ol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TDI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 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representing the design of spreadsheets solutions &amp;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chart of solution, more than one sheet in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diagrams for each sheet showing data protection; type of data, labels, validation rules, drawn by hand or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charts demonstrating procedure for removing cell protection or saving 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ing Data to create solutions &amp; outpu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ata entry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looking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rototype, (solution demonstrating functionality &amp; interface but not complete or fin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ng Solution &amp;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efficiency &amp; effectiveness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3-6 months of implementing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information from a variety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by someone other than the devel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focus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for evalu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ecdotal no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22:12:10Z</dcterms:created>
  <dc:creator>Kelvin Baird</dc:creator>
  <dc:description/>
  <dc:language>en-US</dc:language>
  <cp:lastModifiedBy>Kelvin Baird</cp:lastModifiedBy>
  <dcterms:modified xsi:type="dcterms:W3CDTF">2007-06-20T22:23:01Z</dcterms:modified>
  <cp:revision>4</cp:revision>
  <dc:subject/>
  <dc:title>Unit 4 Outcome 1 Spreadsheets, Problem Solving</dc:title>
</cp:coreProperties>
</file>